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3F5-18E7-4571-850C-98405445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2CD-ED3C-40EB-9871-4CFD8D6D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1F2-DE00-40E5-BB78-D8D86754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73A-46E5-45FA-A683-0D0D8A08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17A-56AF-422E-B754-58C7FC0F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A6E-F4A4-4D18-BC8D-91A169CF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4486-D354-4548-9172-41231B09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B52-432F-4EF9-A5F0-3474604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3693-BF7C-4E7E-A9F5-2BA1790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2372-EEED-44A6-B83E-78A9831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F2E1-39E0-4B81-81CB-D9D764C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24C-8860-48D1-BAFD-1917473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067-9636-4DDB-B920-C8560A5F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6D9C-26B1-4822-BF4B-FAE9F62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F57-7AFE-41C2-8BB2-C46ACBD1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8D19-E140-4BBA-8DDD-6ABD6F98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558-844F-4955-BEE3-CF8D880D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5D7-3E67-4FEC-88DD-D02EA96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7C4-3054-4EAB-A5A8-8D1C1D1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CE9-0A4B-4395-851C-C0A2D620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985-BDAA-4199-AFF9-0E88E9F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500-3028-4A79-B1D4-53D66E4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089-2E4C-425F-A8C8-8672932B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E60-825B-4B82-8ABC-F904435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C2FA-C1F7-4E3B-96B0-9787E50D63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E110-1796-44E8-A156-8CCCBB3D61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 Students will determine equivalent ratios/propor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Proportions in Geometry?</a:t>
            </a: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rtions can be used to find missing dimensions of similar fig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419720"/>
            <a:ext cx="1600200" cy="10666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29923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429000"/>
            <a:ext cx="3048120" cy="1523880"/>
          </a:xfrm>
          <a:prstGeom prst="rect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9760" y="4068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7680" y="47545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00560" y="39164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72120" y="30416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Finding the missing sides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 by setting up the ratios using a variable for the missing si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9880" y="2741760"/>
                <a:ext cx="12956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09480" y="47563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 cross products to solve for the vari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3200" spc="-1" strike="noStrike">
                <a:solidFill>
                  <a:srgbClr val="827f4c"/>
                </a:solidFill>
                <a:latin typeface="Arial"/>
              </a:rPr>
              <a:t>Let’s Practice</a:t>
            </a:r>
            <a:r>
              <a:rPr b="0" lang="en-US" sz="4000" spc="-1" strike="noStrike">
                <a:solidFill>
                  <a:srgbClr val="827f4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962520"/>
            <a:ext cx="1066680" cy="129528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066680"/>
            <a:ext cx="1981080" cy="2362320"/>
          </a:xfrm>
          <a:prstGeom prst="rtTriangle">
            <a:avLst/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648320"/>
            <a:ext cx="5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5840" y="52578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581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7f4c"/>
                </a:solidFill>
                <a:latin typeface="Arial"/>
              </a:rPr>
              <a:t>Objective:  Students will determine equivalent ratios/proportions</a:t>
            </a:r>
            <a:br>
              <a:rPr sz="2000"/>
            </a:b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Your turn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600" y="1981080"/>
            <a:ext cx="86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ngle one has a length of 9 cm and width of 15 cm.  Rect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ngth 20 cm and width of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4027320"/>
            <a:ext cx="84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angle one has a leg 8 ft and another 21 ft.  Triangle two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eg 20 ft and another le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t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value of q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zzazz Worksheet E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2:53:40Z</dcterms:created>
  <dc:creator>ccps</dc:creator>
  <dc:description/>
  <dc:language>en-US</dc:language>
  <cp:lastModifiedBy>Brian McGrath</cp:lastModifiedBy>
  <dcterms:modified xsi:type="dcterms:W3CDTF">2011-05-18T03:05:44Z</dcterms:modified>
  <cp:revision>9</cp:revision>
  <dc:subject/>
  <dc:title>Unit 13</dc:title>
</cp:coreProperties>
</file>